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0F335-4CC0-4C4C-A11B-EA538DB3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4FE7A-85DC-4F07-96EC-50336C8C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009BF-B6F7-4448-9865-762D531A9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8A137-34C4-4B23-96B1-C9E7D3C34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C216-33CF-44C2-9C2E-A058F75C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354A6-1ECB-4D52-A2D0-16CBFC825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E3375-6CC0-4E6E-80BC-755CBCCAD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8410B-341C-4815-A205-232C7EAD0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17E9E-4DF9-4B77-BCD0-34152B2D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9E09-3ACB-49C9-8421-9A610108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701A-F2FD-42E1-A2A2-EA16B05F4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5E02-73F9-495E-A957-C682212DE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86EF-E55A-44B7-97B0-A3F766D127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si, Amnesti, Abolis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s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alah pengampunan berupa perubahan, peringanan, pengurangan atau penghapusan pelaksanaan pidana kepada terpidana yang diberikan oleh Presiden.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ang dimaksud terpidana adalah seseorang yang dipidana berdasarkan putusan pengadilan yang telah memperoleh kekuatan hukum tetap.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si saat ini diatur dalam Undang-Undang Nomor 22 Tahun 2002 tentang Gra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85440"/>
            <a:ext cx="8229600" cy="5715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tusan pemidanaan yang dapat dimohonkan grasi adalah pidana mati, penjara seumur hidup, dan penjara paling rendah 2(dua) tahun.  Permohonan grasi dapat diajukan 1(satu) kali, kecuali dalam hal:</a:t>
            </a:r>
            <a:endParaRPr b="0" lang="en-US" sz="27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rpidana yang pernah ditolak permohonan grasinya, dan telah lewat waktu  2(dua) tahun sejak tanggal perolehan permohonan grasi tersebut;</a:t>
            </a:r>
            <a:endParaRPr b="0" lang="en-US" sz="27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rpidana yang pernah diberi grasi dari pidana mati menjadi pidana penjara seumur hidup dan telah lewat waktu 2(dua) tahun sejak tanggal keputusan pemberian grasi diterima.</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rmohonan grasi tidak menunda pelaksanaan putusan pemidanaan bagi terpidana, kecuali dalam hal putusan pidana mati.</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219320"/>
            <a:ext cx="8229600" cy="4906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iden berhak mengabulkan dan menolak permohonan grasi setelah mendapat pertimbangan Mahkamah Agung. Pemberian grasi oleh Presiden dapat berupa: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ringanan atau perubahan jenis pidana;</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urangan jumlah pidana, atau;</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hapusan pelaksanaan pidan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80880"/>
            <a:ext cx="8229600" cy="60962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haroni"/>
                <a:ea typeface="Aharoni"/>
              </a:rPr>
              <a:t>Permohonan grasi tidak dibatasi tenggang waktu.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haroni"/>
                <a:ea typeface="Aharoni"/>
              </a:rPr>
              <a:t>Permohonan grasi diajukan secara tertulis kepada Preside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haroni"/>
                <a:ea typeface="Aharoni"/>
              </a:rPr>
              <a:t>Permohonan grasi dapat diajukan melalui Kepala Lembaga Pemasyarakatan tempat terpidana menjalani masa pidananya.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haroni"/>
                <a:ea typeface="Aharoni"/>
              </a:rPr>
              <a:t>Permohonan grasi dan salinannya disampaikan kepada Kepala Lembaga Pemasyarakatan tempat terpidana menjalani masa pidananya. Salinan permohonan grasi dikirim pada Pengadilan Negeri tingkat pertama yang menyidangkan perkaranya, sedangkan permohonan grasinya disampaikan kepada Presiden paling lambat 7(tujuh) hari sejak dikirimnya permohonan grasi dan salinannya.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haroni"/>
                <a:ea typeface="Aharoni"/>
              </a:rPr>
              <a:t>20(dua puluh) hari setelah Pengadilan Negeri menerima salinan permohonan grasi, maka Pengadilan Negeri segera mengirim salinan tersebut ke Mahkamah Agung. 3(tiga) bulan kemudian Mahkamah Agung mengirim pertimbangan kepada Presiden. 3(tiga) bulan sejak diterima pertimbangan Mahkamah Agung, Presiden harus memutuskan permohonan grasi tersebu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nesti</a:t>
            </a:r>
            <a:endParaRPr b="0" lang="en-US" sz="4400" spc="-1" strike="noStrike">
              <a:solidFill>
                <a:srgbClr val="000000"/>
              </a:solidFill>
              <a:latin typeface="Calibri"/>
            </a:endParaRPr>
          </a:p>
        </p:txBody>
      </p:sp>
      <p:sp>
        <p:nvSpPr>
          <p:cNvPr id="49" name=""/>
          <p:cNvSpPr txBox="1"/>
          <p:nvPr/>
        </p:nvSpPr>
        <p:spPr>
          <a:xfrm>
            <a:off x="457200" y="11426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Calibri"/>
              </a:rPr>
              <a:t>Amnesti, dari bahasa Yunani </a:t>
            </a:r>
            <a:r>
              <a:rPr b="0" i="1" lang="fi-FI" sz="3000" spc="-1" strike="noStrike">
                <a:solidFill>
                  <a:srgbClr val="000000"/>
                </a:solidFill>
                <a:latin typeface="Calibri"/>
              </a:rPr>
              <a:t>amnestia </a:t>
            </a:r>
            <a:r>
              <a:rPr b="0" lang="fi-FI" sz="3000" spc="-1" strike="noStrike">
                <a:solidFill>
                  <a:srgbClr val="000000"/>
                </a:solidFill>
                <a:latin typeface="Calibri"/>
              </a:rPr>
              <a:t>yang artinya</a:t>
            </a:r>
            <a:r>
              <a:rPr b="0" i="1" lang="fi-FI" sz="3000" spc="-1" strike="noStrike">
                <a:solidFill>
                  <a:srgbClr val="000000"/>
                </a:solidFill>
                <a:latin typeface="Calibri"/>
              </a:rPr>
              <a:t>‘</a:t>
            </a:r>
            <a:r>
              <a:rPr b="0" lang="fi-FI" sz="3000" spc="-1" strike="noStrike">
                <a:solidFill>
                  <a:srgbClr val="000000"/>
                </a:solidFill>
                <a:latin typeface="Calibri"/>
              </a:rPr>
              <a:t>melupakan</a:t>
            </a:r>
            <a:r>
              <a:rPr b="0" i="1" lang="fi-FI" sz="3000" spc="-1" strike="noStrike">
                <a:solidFill>
                  <a:srgbClr val="000000"/>
                </a:solidFill>
                <a:latin typeface="Calibri"/>
              </a:rPr>
              <a:t>’</a:t>
            </a:r>
            <a:r>
              <a:rPr b="0" lang="fi-FI"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nesti adalah pengampunan yang diberikan oleh Presiden kepada sekelompok orang yang melakukan tindak pidana yang perkaranya belum diputus oleh Pengadilan atau masih dalam proses pemeriksaan. (terutama pelaku tindak pidana politi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mnesti untuk kejahatan-kejahatan perang internasional, kejahatan melawan umat manusia dan pemusnahan etnis, tidak diperbolehkan berdasarkan hukum internasiona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llisi</a:t>
            </a:r>
            <a:endParaRPr b="0" lang="en-US" sz="4400" spc="-1" strike="noStrike">
              <a:solidFill>
                <a:srgbClr val="000000"/>
              </a:solidFill>
              <a:latin typeface="Calibri"/>
            </a:endParaRPr>
          </a:p>
        </p:txBody>
      </p:sp>
      <p:sp>
        <p:nvSpPr>
          <p:cNvPr id="51" name=""/>
          <p:cNvSpPr txBox="1"/>
          <p:nvPr/>
        </p:nvSpPr>
        <p:spPr>
          <a:xfrm>
            <a:off x="457200" y="1142640"/>
            <a:ext cx="8229600" cy="5334120"/>
          </a:xfrm>
          <a:prstGeom prst="rect">
            <a:avLst/>
          </a:prstGeom>
          <a:noFill/>
          <a:ln w="0">
            <a:noFill/>
          </a:ln>
        </p:spPr>
        <p:txBody>
          <a:bodyPr anchor="t">
            <a:normAutofit/>
          </a:bodyPr>
          <a:p>
            <a:pPr marL="47520" indent="-47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Abolisi adalah penghentian tuntutan pidana terhadap seseorang yang sedang diajukan kepengadilan. </a:t>
            </a:r>
            <a:endParaRPr b="0" lang="en-US" sz="2300" spc="-1" strike="noStrike">
              <a:solidFill>
                <a:srgbClr val="000000"/>
              </a:solidFill>
              <a:latin typeface="Calibri"/>
            </a:endParaRPr>
          </a:p>
          <a:p>
            <a:pPr marL="47520" indent="-47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Abolisi itu juga hanya bisa diberikan jika:</a:t>
            </a:r>
            <a:endParaRPr b="0" lang="en-US" sz="2300" spc="-1" strike="noStrike">
              <a:solidFill>
                <a:srgbClr val="000000"/>
              </a:solidFill>
              <a:latin typeface="Calibri"/>
            </a:endParaRPr>
          </a:p>
          <a:p>
            <a:pPr marL="47520" indent="-47520">
              <a:lnSpc>
                <a:spcPct val="80000"/>
              </a:lnSpc>
              <a:spcBef>
                <a:spcPts val="575"/>
              </a:spcBef>
              <a:buClr>
                <a:srgbClr val="000000"/>
              </a:buClr>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seorang terdakwa berada dalam kondisi hilang ingatan (gila) sehingga tidak memiliki kemampuan untuk menyampaikan apa yang dipikirkan dan dilakukannya secara baik; </a:t>
            </a:r>
            <a:endParaRPr b="0" lang="en-US" sz="2300" spc="-1" strike="noStrike">
              <a:solidFill>
                <a:srgbClr val="000000"/>
              </a:solidFill>
              <a:latin typeface="Calibri"/>
            </a:endParaRPr>
          </a:p>
          <a:p>
            <a:pPr marL="47520" indent="-47520">
              <a:lnSpc>
                <a:spcPct val="80000"/>
              </a:lnSpc>
              <a:spcBef>
                <a:spcPts val="575"/>
              </a:spcBef>
              <a:buClr>
                <a:srgbClr val="000000"/>
              </a:buClr>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kondisi tersangka atau terdakwa secara medik dinyatakan oleh dokter tersumpah tidak memiliki kemampuan fisik (sudah tidak dimungkinkan lagi mampu menyampaikan pandangan dan mengerti dan memahami tuntutan yang dituduhkan pada dirinya); </a:t>
            </a:r>
            <a:endParaRPr b="0" lang="en-US" sz="2300" spc="-1" strike="noStrike">
              <a:solidFill>
                <a:srgbClr val="000000"/>
              </a:solidFill>
              <a:latin typeface="Calibri"/>
            </a:endParaRPr>
          </a:p>
          <a:p>
            <a:pPr marL="47520" indent="-47520">
              <a:lnSpc>
                <a:spcPct val="80000"/>
              </a:lnSpc>
              <a:spcBef>
                <a:spcPts val="575"/>
              </a:spcBef>
              <a:buClr>
                <a:srgbClr val="000000"/>
              </a:buClr>
              <a:buFont typeface="Aharon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seseorang yang dalam proses pengadilan meninggal dunia. </a:t>
            </a:r>
            <a:endParaRPr b="0" lang="en-US" sz="2300" spc="-1" strike="noStrike">
              <a:solidFill>
                <a:srgbClr val="000000"/>
              </a:solidFill>
              <a:latin typeface="Calibri"/>
            </a:endParaRPr>
          </a:p>
          <a:p>
            <a:pPr marL="47520" indent="-475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haroni"/>
                <a:ea typeface="Aharoni"/>
              </a:rPr>
              <a:t>Terhadap ketiga syarat ini Abolisi menjadi suatu yang otomatis. </a:t>
            </a:r>
            <a:endParaRPr b="0" lang="en-US" sz="2300" spc="-1" strike="noStrike">
              <a:solidFill>
                <a:srgbClr val="000000"/>
              </a:solidFill>
              <a:latin typeface="Calibri"/>
            </a:endParaRPr>
          </a:p>
          <a:p>
            <a:pPr marL="47520" indent="-475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7520" indent="-475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lisi juga dapat diberikan jika perkara pidananya dilanjutkan penuntutan di pengadilan maka hal itu akan lebih banyak merugikan kepentingan umum serta membahayakan keberlangsungan jalannya pemerintahan dan negar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4T02:18:52Z</dcterms:created>
  <dc:creator>UNY</dc:creator>
  <dc:description/>
  <dc:language>en-US</dc:language>
  <cp:lastModifiedBy>UNY</cp:lastModifiedBy>
  <dcterms:modified xsi:type="dcterms:W3CDTF">2014-04-14T02:36:14Z</dcterms:modified>
  <cp:revision>2</cp:revision>
  <dc:subject/>
  <dc:title>Grasi, Amnesti, Abolisi</dc:title>
</cp:coreProperties>
</file>